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04D-B4FC-4133-B5DA-46BF7510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76F2-E905-4BE4-AA73-CA0CBA84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B48-B6AB-4B1E-A353-5DF400A5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8BB-A54D-4098-BFE1-13385AB0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E8CE-19BC-40D5-A24C-0416FBC5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2BA1-AB5F-4A74-AA9E-9E03C56F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C40B-6221-4102-AD4A-4BA78EEA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B28B-3027-4D11-88FD-9FDC9148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1F73-718F-4A25-BC30-E0A9D182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76FF-B429-4CB0-8F54-3407CFF6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7E5E-C6EA-4283-8576-D54B0E78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4B4-BAA1-4E44-8501-E816D73D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E85A-C6CD-45D8-A893-0F87614A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39EC-8A99-4889-B406-CB51AC38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E5D4-5425-43CE-8BFA-D2470650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72FA-3B78-42BB-B84B-B92F3779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8EA9-2DA2-451E-9B4C-6D071446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4647-0CBE-435B-8798-1079248B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7D7-DC37-480B-B330-D60C2E25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5397-FF4D-4F41-A40A-BF902E1C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9A1C-5244-4C6D-8EE7-27FED2BC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C33-C5BA-41BE-BDBA-7D6B8C4B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5875-B3C7-4C18-A559-337BACB9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9B5-79F7-4528-A0BF-0E24D586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EB6B-95A1-4D14-8C58-43DF5483E48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2D0F-9E5E-4C0B-9F36-F3F1AAC86E4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hapter 7A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iting News Sto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 few things to avoid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dundan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A.M. in the morning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hé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void clichés like you avoid the plagu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n’t worry about repeating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ssive Vo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rite in the active voice as much as possi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ways rememb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reasonable and prudent, not arbitrary or capricious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Building on the Lea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follows the lead is the next most important part of the sto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has to be goo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otes add a personal touch to the wri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will want to have someone’s voice in the article immediate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may also transi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ok at the examples on p. 154-15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Body of the Stor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laboration takes place he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xpand upon the lead and second paragraph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telling the story in more detail occurs he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e sure to continue to tie everything togethe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s you move along, the information should become less and less detailed as well as less and less importa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HY?  So the editor can simply lob off the en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ook at the example on p. 157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Other Organizational Pattern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rytelling style – narrative sty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eat for non-print journal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ok at the example on p. 15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bination style – combining inverted pyramid with storytel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eat for action stor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debar – story related to another story on the page but told different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ppropriate Newspaper Styl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a number of rules you must follow – use the styleboo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have copies of the Associated Press Stylebook as well as our own O’Gorman styleboo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void Offensive Languag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politically correct termin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ything that might seem to be in poor taste usually 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 slang term for religious belief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ch out for bi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n’t show favoritism to the scho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aren’t writing a newslet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 sexist langua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Be succinc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velop clear and concise ways of expressing yoursel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clear, simple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ok at the list on p. 16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Jargo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side language of grou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jargon is okay, but don’t go to extre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traightforward Sentence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idea, one sent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ort paragraphs, short senten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urnalistic paragraphs should be 2-3 senten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y away from semicol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20:07:30Z</dcterms:created>
  <dc:creator>jvanengen</dc:creator>
  <dc:description/>
  <dc:language>en-US</dc:language>
  <cp:lastModifiedBy>jvanengen</cp:lastModifiedBy>
  <dcterms:modified xsi:type="dcterms:W3CDTF">2009-07-23T20:25:12Z</dcterms:modified>
  <cp:revision>4</cp:revision>
  <dc:subject/>
  <dc:title>Chapter 7A</dc:title>
</cp:coreProperties>
</file>